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A1E-8501-4A79-97BA-65AFF02E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0EC-DA25-49D1-B218-97ECF72D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35C-CDAA-46DC-AA4A-515B85C1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DE0-2096-447C-B70A-1304F633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2A78-9D86-45B9-A8B3-56097AEB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DB21-830F-40D2-9941-B05A4C0A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D8DF-25D2-498E-AF80-260DB38E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829D-38F8-4E6F-8FA5-4A599A44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4084-A1D3-4686-AFBE-5EFF8C42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3B74-B2F3-4EAA-8A87-48260A78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960D-BA19-4964-8976-C65CD8AF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968-1CEB-48AE-A830-49EB0D59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A5B5-369C-4C76-ABBD-5599A43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2FB4-4B6C-44B4-ADFD-84C41503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85B8-FEFE-42CC-8FD8-3B7FBCFF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D2E7-F23C-402C-A765-324C9EE3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BC10-9947-463D-8BC0-D1D2A307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EF0-AC0A-4BDF-A086-EE85C72F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848-7772-4DF6-B673-017D3A5A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590-5D7D-47DB-976B-772D3E3B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E1F-0BFF-46E7-B963-EEFA38DD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778-0F46-47B9-A55B-7AEDC0B2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0C7-9CA6-49F9-8158-4579474B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18B-9285-40D4-90D3-399DD3E8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3CDC-C79B-46E8-ACC4-4DEA4842C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F53B-C0C9-4442-9E7E-396AD2312F3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colonization and Postwar Settl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mao1"/>
          <p:cNvPicPr/>
          <p:nvPr/>
        </p:nvPicPr>
        <p:blipFill>
          <a:blip r:embed="rId1"/>
          <a:stretch/>
        </p:blipFill>
        <p:spPr>
          <a:xfrm>
            <a:off x="5791320" y="4191120"/>
            <a:ext cx="2914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ce Trea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policy changed from keeping Japan from reemerging as a military power to rebuilding its economy and transforming it into an important part in the anti-Communist bl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same day that the peace treaty was signed, a mutual security pact was signed between Japan and the U.S. It provided for continued U.S. military presence to protect it from commu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kinawa was to remain under U.S. occupation (1972); retaining rights to military b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ified October 1951; went into effect April 195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ed Nations Declaration on Granting Independence to Colonial Countries and Peoples, 19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subjection of peoples to alien subjugation, domination and exploitation constitutes a denial of fundamental human rights, is contrary to the Charter of the United Nations and is an impediment to the promotion of world peace and co-ope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ll peoples have the right to self-determination; by virtue of that right they freely determine their political status and freely pursue their economic, social and cultural develop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colon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it became apparent that the Europe-centered world was no more, anti-colonial nationalism surged after 194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cess of decolonization followed three broad patter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war (Ch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d independence (Indian subcontinent and much of Afr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decolonization (Algeria and South Afr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ivil War in Chi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st movement in China grew as poverty and civil unrest sprea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of Mao Tse-tung (Commun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y membership swelled from a mere 40,000 in 1937 to over a million in 194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Japan surrendered to end World War II, the civil war between the Nationalists and the Communists resu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supports Chiang Kai-shek and his Nationali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fully recovered from its demoralizing defeat at the hands of the Japanese. (Lost popular sup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 and inefficient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ivil War in Chi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048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d with Communist victory, the Nationalist leaders escaped and set up a rival Chinese state on the island of Formosa (Taiwan) in 194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hina_sm02"/>
          <p:cNvPicPr/>
          <p:nvPr/>
        </p:nvPicPr>
        <p:blipFill>
          <a:blip r:embed="rId1"/>
          <a:stretch/>
        </p:blipFill>
        <p:spPr>
          <a:xfrm>
            <a:off x="297180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otiated Independence in India and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India and much of colonial Africa, independence came with little bloodsh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itish withdrew after WW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istan and India gained independence in August, 1947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in India between Hindu majority and Muslim min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shot dead by a Hindu zealot in 19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’s first prime minister, Jawaharlal Nehru was committed to the goal of state-directed moderniz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76520" y="304920"/>
            <a:ext cx="7010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colonization in Africa and Asia after World War II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219320" y="179064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otiated Independence in India and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decade and a half of Indian independence, most of the African states also gained their sovereign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57, the Gold Coast (renamed Ghana) became tropical Africa’s first independent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963 all of British-ruled Africa except for Southern Rhodesia was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of these colonial possessions, charismatic nationalist leaders took charge of populist political parties and became the leaders to whom the British turned over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colonization in Africa and Asia after World War I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66680" y="1790640"/>
            <a:ext cx="7607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523880" y="380880"/>
            <a:ext cx="7162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colonization in Africa and Asia after World War II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066680" y="1790640"/>
            <a:ext cx="7607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ost-Surrender Terms for Jap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 of Japan following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 was deva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cities (except Kyoto), the industries, and transportation networks were severely dam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vere shortage of food continued for several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– the cost of living rose by 10 percent each month for about two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otiated Independence in India and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olonization in much of French-ruled Africa followed a similarly smooth path, though the French were initially more resistant than the Britis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irst, treated decolonization as assimi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nce dissolved its political ties with French West Africa and French Equatorial Africa in 1960, having already given the protectorates in Morocco and Tunisia their independence in 195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complete Decolonization: Algeria and South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esence of sizeable European settler populations complicated the path from colony to n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ria: 1 million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leaders claimed that Algeria was an integral part of metropolitan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ed a minority to the 9 million indigenous Arabs and Berber peo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Africa: 4 million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ity white rul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rika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ersi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complete Decolonization: Algeria and South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rian War of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r dragged on for eight years (1954-1962), at a cost of as many as 300,000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ome, French society was torn a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gotiations to end the war began only after an insurrection l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rmy officers had caused the French Fourth Republic to fall in 1958 and brought Charles de Gaulle to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62, more than 9/10ths of the European population had dep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complete Decolonization: Algeria and South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winning the elections of 1948, the Afrikaner-dominated National Party in South Africa enacted an extreme form of racial segregation known as apart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theid laws stripped Africans, Indians, and colored persons (mixed descent) of their few political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egregated; country divided into racial “homelan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rican National Congress opposed this legi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Sharpeville massacre of 1960, peaceful protest turned into violent pro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 was sentenced to life in prison in 19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st (U.S.) supported South Africa as a bulwark against the spread of communism in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ccupation of Japan (August 1945 - April 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tire operation was mainly carried out by the United Sta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Douglass MacArthur was named the Supreme Commander of the Allied Powers (SCA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panese people cooperated willingly with the occupation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ef objective of SCAP were demilitarization and democrat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843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ccupation of Japan (August 1945 - April 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ilit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mains of Japan’s war machine were destro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 basically lost all the territory seized after 18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able to maintain “self-defense” fo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g490441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ccupation of Japan (August 1945 - April 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atiz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to eliminate big business conglomerates; independent companies such as Honda, Toyota, and Sony emer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reform program to achieve a more equitable distribution of w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ccupation of Japan (August 1945 - April 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tization, co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r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s to remove militaristic and ultra-nationalistic influences from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ded the teaching of Japanese history and geography until new textbooks could be writ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d students to think (no rote learn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ganized school system after U.S.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ccupation of Japan (August 1945 - April 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cratization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the power of the emperor (figurehead); announce that he was not divine; peerage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executive power of the government responsible to the people or the represent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 legislative body that would be directly responsible to all adult citizens (universal suff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democratically controlled political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ties between the government and Shinto shr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of a new constitution and bill of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6:58:27Z</dcterms:created>
  <dc:creator/>
  <dc:description/>
  <dc:language>en-US</dc:language>
  <cp:lastModifiedBy>Sue Gregory</cp:lastModifiedBy>
  <dcterms:modified xsi:type="dcterms:W3CDTF">2008-04-29T05:54:05Z</dcterms:modified>
  <cp:revision>10</cp:revision>
  <dc:subject/>
  <dc:title>Decolonization and Postwar Settlements</dc:title>
</cp:coreProperties>
</file>